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click.wav" ContentType="audio/x-wav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B76-842D-4C30-B4C4-48A462DA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256-7CEC-4A3D-A6EF-06F76FE9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715-EB4F-46CC-B13A-6E0F60CC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60E-3251-4B3B-A591-6448DBEA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837-A14B-4AEA-810F-8C74C135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C47-EE62-4E0C-9E4F-33DAEEEB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423-B44E-466F-A4D7-48EC6CA8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1A2-6242-4A01-96C2-455258F3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CA0-9E2D-4109-BF7F-88555983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E5B-5EBF-4743-AE9A-4833EDA4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CA0-C93D-4962-A9C5-24A10843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BE3-953B-4AF5-929F-27364D09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7916-B946-4815-8F5E-0C1BF23CF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ladeadores.com/" TargetMode="External"/><Relationship Id="rId2" Type="http://schemas.openxmlformats.org/officeDocument/2006/relationships/hyperlink" Target="http://www.juegos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wasthya.marcocarvalho.com/wp-content/2008/11/gladiator050404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 Luis y May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eg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egos son divertidos como los de los ro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s adultos les gustaba jugar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viejos no corrian como los ninos para j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jueg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0080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ninos jugaban can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allina cie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las escond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descubridores de los ju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s descubridores eran ni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gunos eran adul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ǾLos descubridores ganaban prem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ros tipos de juego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ujeres tenian un juego que era un concurso de pin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ujeres tenian juegos de m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ujeres podian jugar con los homb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os Ju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a un juego de pelo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ban con caba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an  juegos sangri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76520" y="3581280"/>
            <a:ext cx="2652480" cy="2886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adeadores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igenes ro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jueg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limpicos de roma anti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ikispase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DI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o construyo un esplendido teatro a la memoria de su sobrino que  fue un gran glade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gladeadores mas valientes se comvertian en heroes popu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s gladeadores que ganaban se les daba una corona de Laur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pesar do oscar, não foi gordo o bastante segundo os cientist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343400"/>
            <a:ext cx="19051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a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os maratones corrian como 100 k.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que corrían en los maratones corrían descal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s ganadores  se les daban  comida para toda su v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343400" y="388620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to l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oncursantes del salto largo  utilisaban  piedras an las manos para sal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ganadores heran r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 de salto largo tenia que aces ejercicio  para cargar las  rro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eras de rreleb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00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rreras de rrelebos heran muy rrapida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rreras de rrelebos heran muy desespe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rreras de rrelebos todavia ex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jim"/>
          <p:cNvPicPr/>
          <p:nvPr/>
        </p:nvPicPr>
        <p:blipFill>
          <a:blip r:embed="rId1"/>
          <a:stretch/>
        </p:blipFill>
        <p:spPr>
          <a:xfrm>
            <a:off x="1828800" y="4191120"/>
            <a:ext cx="346716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ortes Rom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9cc00">
                  <a:alpha val="96078"/>
                </a:srgbClr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deportes romanos heran brus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Romanos tenian muchos depo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y ben día ay deportes Ro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egos de los niñ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 juegos romanos son muy biejo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 NINOS ROMANOS LES GUSTABAN LOS JUE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 ROMANOS TIENEN MUCHOS JUEG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EGOS DE ADUL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egos de adultos eran brus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egos de los adultos eran dibert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egos de los adultos  no eran para los biejo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juegos de los anci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egos de los ancianos eran como el ajed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juegos de los ancianos todavia ex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  <p:sndAc>
      <p:stSnd>
        <p:snd r:embed="rId1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4:48:51Z</dcterms:created>
  <dc:creator>School District U46</dc:creator>
  <dc:description/>
  <dc:language>en-US</dc:language>
  <cp:lastModifiedBy>School District U46</cp:lastModifiedBy>
  <dcterms:modified xsi:type="dcterms:W3CDTF">2009-03-18T19:27:36Z</dcterms:modified>
  <cp:revision>22</cp:revision>
  <dc:subject/>
  <dc:title>Slide 1</dc:title>
</cp:coreProperties>
</file>